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DD8-B4F7-406F-A90F-817A58A8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B68-6DF6-41D7-9A0E-DB7C5AFC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751-FEB9-4D2C-8EED-76CFBE12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BE5-A1A0-49C6-A25F-47AB4C73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681-F604-4700-9CBA-F1751EA6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537-FF60-4B3E-ABFE-7F056093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7DA-3C65-41C5-B5F9-3B3CFC88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B8B-7727-433F-B0C3-64226B49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156-EB5D-4501-90B9-02D709BD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6A7-45D8-4CDB-8DA0-7E7E0AFE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7F9-6474-4056-A8E1-03FE095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B82-470F-41B9-AE6A-12D920C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821C-1347-4FB0-B31F-4E97B399EC3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ing AM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acid mine drain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38858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antha Bac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llwood-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– size of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 leaves into equal size pi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leaves into circle the size of the bottom of the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 the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95680" y="3219480"/>
            <a:ext cx="41911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-Preparing the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l cup with 150 milliliters of the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the leaves in th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pH meter into the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sit for one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 each sample with plast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ap to prevent evap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47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- T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676160"/>
            <a:ext cx="8610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process 3 more times for a total of 4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each type of lea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with no leaves fo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pH every 2 to 4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mental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fferent types of lea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erimental Grou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 nee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ak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le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5331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ol Gro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lea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 Variab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from sam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starting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turb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out of evap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from sam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t into same size pie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sam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ibrated before data t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nsed between each 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for O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533520" y="2895480"/>
          <a:ext cx="801360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801360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ummary-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51460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(in day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4"/>
          <p:cNvSpPr/>
          <p:nvPr/>
        </p:nvSpPr>
        <p:spPr>
          <a:xfrm rot="16200000">
            <a:off x="-1457640" y="36068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Chart 5" descr=""/>
          <p:cNvPicPr/>
          <p:nvPr/>
        </p:nvPicPr>
        <p:blipFill>
          <a:blip r:embed="rId1"/>
          <a:stretch/>
        </p:blipFill>
        <p:spPr>
          <a:xfrm>
            <a:off x="1292400" y="1670040"/>
            <a:ext cx="6638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the leaves made any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valid for short time fr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of the Ph 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that is very acidic is draining out of abandoned m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xpensive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M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09480" y="14479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he water flowing from abandoned m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usually contains high levels of i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H around 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eddish-brown in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used by rocks contai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bundance of sulfide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80880" y="4191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acidic = Fe dissol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acidic  = Fe will set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ed wet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:\Users\amf\Pictures\AMD pix\156.JPG"/>
          <p:cNvPicPr/>
          <p:nvPr/>
        </p:nvPicPr>
        <p:blipFill>
          <a:blip r:embed="rId1"/>
          <a:stretch/>
        </p:blipFill>
        <p:spPr>
          <a:xfrm>
            <a:off x="4572000" y="320040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e Need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white pine native to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throughout Pennsylv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slightly acid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ak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to northern hemi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oth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le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to Asia but found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oth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ak leaves will do better than the other lea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gh test to determin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wit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a piece of leaf in the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sit to see if it will sink or flo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for each le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38:57Z</dcterms:created>
  <dc:creator>Altoona Mirror</dc:creator>
  <dc:description/>
  <dc:language>en-US</dc:language>
  <cp:lastModifiedBy>Samantha Bacza</cp:lastModifiedBy>
  <dcterms:modified xsi:type="dcterms:W3CDTF">2011-03-05T02:40:00Z</dcterms:modified>
  <cp:revision>109</cp:revision>
  <dc:subject/>
  <dc:title>Which leading brand of battery will last the longest?</dc:title>
</cp:coreProperties>
</file>